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59E6-2E0A-4D47-BF0A-59BE5D12D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83E3-ED04-40CB-8BA9-134FAF87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A24E-C2D0-4453-92CF-6ED17D899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DED6-7A0C-47B8-97F0-0CB2875F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316C-DD92-4CA3-A4CB-44CDE0836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3415-964B-433C-A786-61035875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2EBD-C9FE-491F-83BA-DD0E83CC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BD37-6707-4264-B09F-CCE39976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FB99-1C3F-414F-86E0-90F52655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628A-A670-424B-AC9C-C896A8CE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2406-27D6-41EC-AE7D-4A7DDD95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6B46-91C1-467E-9CAB-432A9A19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6E72-514D-43F3-A99A-B07E48CB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FDDE-ECEF-47AD-92B4-DFFC243C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1775-5FD3-4AE5-BA5F-F220B7B6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45C4-2A51-4177-96A1-79FB6CFA1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866E-B4B0-46F7-BCC1-B61909C75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A28C5-0902-4968-B2B6-35FC353D4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FB7B8-0272-4D9F-B4FE-634DAC1E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A7924-24D4-45E6-A3EB-B307F8E5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5F784-B3FC-4CC8-B801-D129FD13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289B1-1EBA-4147-9CA4-1CDC205E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A932-9321-431C-96DF-97CAB6B9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C338C-D50A-437C-9EDC-B997D8A4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77971-3725-43AD-ACE6-1F7FA276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5C707-B892-4187-BDEE-545D860F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76C34-7E5B-45F2-BFE1-5804A245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B397D-2544-4CC9-90BE-79F29550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E250E-17A4-4CD9-9009-DF2D83E57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BCBD3-A4C2-489C-9B6A-14490748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59351-D0D8-4587-A57B-B17C9D012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9834B-3A19-4588-A6DD-D6D8DC06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32695-C28C-4DD1-BB25-FED0D423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D032-E1B2-4F17-AC25-88E052D8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82A65-8EB2-414D-B385-E0F14EB7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0AB97-369B-45A7-94FD-E21ABE38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0D4C1-40FC-435E-A336-84276EBF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65410-89FA-4C3A-8951-C8233132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A564F-EA98-4719-B1B2-CB7B9572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FD085-ADAC-4011-9CFF-CD31332B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D7EC7-9E29-44CD-86CF-54AD6081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A626C-E191-435B-AB95-A6898A6B8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D5E4E-BF09-4B3C-8D86-859280AF1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2B0C-6249-4C06-A16C-2E704412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1549-433F-41D7-839C-DB9C7116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3432-7FDC-40FC-9D3C-749F1BE5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8F25-D5DF-49A6-B6ED-51386C11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D7DC-9C7C-44AF-836F-9336F2F1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e46c0a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e46c0a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e46c0a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e46c0a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e46c0a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73CE-A144-48D0-B936-72FA37CC1D9B}" type="datetime">
              <a:rPr b="1" lang="ru-RU" sz="1100" spc="-1" strike="noStrike">
                <a:solidFill>
                  <a:srgbClr val="7f7f7f"/>
                </a:solidFill>
                <a:latin typeface="Arial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4051-C6CC-4F56-9CC2-FD7100C049F1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e46c0a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e46c0a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e46c0a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e46c0a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e46c0a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61B8-7866-4E1A-9DF0-9D1996F52EED}" type="datetime">
              <a:rPr b="1" lang="ru-RU" sz="1100" spc="-1" strike="noStrike">
                <a:solidFill>
                  <a:srgbClr val="7f7f7f"/>
                </a:solidFill>
                <a:latin typeface="Arial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7660-F7FE-4ED5-868B-D8C611193F31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e46c0a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e46c0a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e46c0a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e46c0a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e46c0a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FAF3-0A7C-4A9C-909D-574754C22C2D}" type="datetime">
              <a:rPr b="1" lang="ru-RU" sz="1100" spc="-1" strike="noStrike">
                <a:solidFill>
                  <a:srgbClr val="7f7f7f"/>
                </a:solidFill>
                <a:latin typeface="Arial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DD2D-12BB-49FC-A301-D62DEF378731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e46c0a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e46c0a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e46c0a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e46c0a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e46c0a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CCC3-0EE4-4346-8CCA-24080B21409A}" type="datetime">
              <a:rPr b="1" lang="ru-RU" sz="1100" spc="-1" strike="noStrike">
                <a:solidFill>
                  <a:srgbClr val="7f7f7f"/>
                </a:solidFill>
                <a:latin typeface="Arial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C31D-B17A-4F0E-8F42-4D42299595BE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3"/>
          <p:cNvSpPr/>
          <p:nvPr/>
        </p:nvSpPr>
        <p:spPr>
          <a:xfrm>
            <a:off x="928800" y="1628640"/>
            <a:ext cx="771516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АДМИНИСТРАЦИИ ГОРОДА КУДЫМКАРА В СФЕРЕ РАЗВИТИЯ ИНФРАСТРУКТУРЫ И ЖИЛИЩНО-КОММУНАЛЬНОГО ХОЗЯЙСТВА В 2013 ГОД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КАЧЕСТВА СРЕДЫ ПРОЖИВАНИЯ ГОРОЖ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ГОРОДСКОЙ ИНФРАСТРУК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785880" cy="857520"/>
          </a:xfrm>
          <a:prstGeom prst="rect">
            <a:avLst/>
          </a:prstGeom>
          <a:ln w="0">
            <a:noFill/>
          </a:ln>
        </p:spPr>
      </p:pic>
      <p:sp>
        <p:nvSpPr>
          <p:cNvPr id="216" name="TextBox 1"/>
          <p:cNvSpPr/>
          <p:nvPr/>
        </p:nvSpPr>
        <p:spPr>
          <a:xfrm>
            <a:off x="1116000" y="558972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И.о. главы администрации города Кудымк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ев Вячеслав Ива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Номер слайда 2"/>
          <p:cNvSpPr/>
          <p:nvPr/>
        </p:nvSpPr>
        <p:spPr>
          <a:xfrm>
            <a:off x="8459640" y="6329520"/>
            <a:ext cx="605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50A3-C029-4687-9A08-1F8F26C3151D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1"/>
          <a:stretch/>
        </p:blipFill>
        <p:spPr>
          <a:xfrm>
            <a:off x="682560" y="85680"/>
            <a:ext cx="8004240" cy="1036800"/>
          </a:xfrm>
          <a:prstGeom prst="rect">
            <a:avLst/>
          </a:prstGeom>
          <a:ln w="0">
            <a:noFill/>
          </a:ln>
        </p:spPr>
      </p:pic>
      <p:pic>
        <p:nvPicPr>
          <p:cNvPr id="219" name="Содержимое 3" descr=""/>
          <p:cNvPicPr/>
          <p:nvPr/>
        </p:nvPicPr>
        <p:blipFill>
          <a:blip r:embed="rId2"/>
          <a:stretch/>
        </p:blipFill>
        <p:spPr>
          <a:xfrm>
            <a:off x="469800" y="1157400"/>
            <a:ext cx="8456760" cy="4906800"/>
          </a:xfrm>
          <a:prstGeom prst="rect">
            <a:avLst/>
          </a:prstGeom>
          <a:ln w="0">
            <a:noFill/>
          </a:ln>
        </p:spPr>
      </p:pic>
      <p:sp>
        <p:nvSpPr>
          <p:cNvPr id="220" name="Номер слайда 1"/>
          <p:cNvSpPr/>
          <p:nvPr/>
        </p:nvSpPr>
        <p:spPr>
          <a:xfrm>
            <a:off x="8532720" y="6237360"/>
            <a:ext cx="389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1A82-623A-4556-98D2-018240770CB5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Текст 10" descr=""/>
          <p:cNvPicPr/>
          <p:nvPr/>
        </p:nvPicPr>
        <p:blipFill>
          <a:blip r:embed="rId1"/>
          <a:stretch/>
        </p:blipFill>
        <p:spPr>
          <a:xfrm>
            <a:off x="420840" y="1073160"/>
            <a:ext cx="4174920" cy="884160"/>
          </a:xfrm>
          <a:prstGeom prst="rect">
            <a:avLst/>
          </a:prstGeom>
          <a:ln w="0">
            <a:noFill/>
          </a:ln>
        </p:spPr>
      </p:pic>
      <p:pic>
        <p:nvPicPr>
          <p:cNvPr id="222" name="Содержимое 14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4186080" cy="4632480"/>
          </a:xfrm>
          <a:prstGeom prst="rect">
            <a:avLst/>
          </a:prstGeom>
          <a:ln w="0">
            <a:noFill/>
          </a:ln>
        </p:spPr>
      </p:pic>
      <p:pic>
        <p:nvPicPr>
          <p:cNvPr id="223" name="Текст 12" descr=""/>
          <p:cNvPicPr/>
          <p:nvPr/>
        </p:nvPicPr>
        <p:blipFill>
          <a:blip r:embed="rId3"/>
          <a:stretch/>
        </p:blipFill>
        <p:spPr>
          <a:xfrm>
            <a:off x="5145120" y="1212840"/>
            <a:ext cx="3541680" cy="70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4786200" y="1928880"/>
          <a:ext cx="3900600" cy="3303360"/>
        </p:xfrm>
        <a:graphic>
          <a:graphicData uri="http://schemas.openxmlformats.org/drawingml/2006/table">
            <a:tbl>
              <a:tblPr/>
              <a:tblGrid>
                <a:gridCol w="1652760"/>
                <a:gridCol w="1241280"/>
                <a:gridCol w="1006560"/>
              </a:tblGrid>
              <a:tr h="146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дрес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илая площадь переселе-нных  домов, кв. 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пересе-ленных, чел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8396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.Ленина, д.1, ул.Халтурина, д.37, ул.Яковкина, д.3, ул.Чкалова, д.37б, ул.Больничный городок 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25" name="Заголовок 9" descr=""/>
          <p:cNvPicPr/>
          <p:nvPr/>
        </p:nvPicPr>
        <p:blipFill>
          <a:blip r:embed="rId4"/>
          <a:stretch/>
        </p:blipFill>
        <p:spPr>
          <a:xfrm>
            <a:off x="457200" y="139680"/>
            <a:ext cx="8229600" cy="1135080"/>
          </a:xfrm>
          <a:prstGeom prst="rect">
            <a:avLst/>
          </a:prstGeom>
          <a:ln w="0">
            <a:noFill/>
          </a:ln>
        </p:spPr>
      </p:pic>
      <p:sp>
        <p:nvSpPr>
          <p:cNvPr id="226" name="Номер слайда 1"/>
          <p:cNvSpPr/>
          <p:nvPr/>
        </p:nvSpPr>
        <p:spPr>
          <a:xfrm>
            <a:off x="8675640" y="6308640"/>
            <a:ext cx="389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9D6E-3642-47AD-93C8-51508D938389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Текст 5" descr=""/>
          <p:cNvPicPr/>
          <p:nvPr/>
        </p:nvPicPr>
        <p:blipFill>
          <a:blip r:embed="rId1"/>
          <a:stretch/>
        </p:blipFill>
        <p:spPr>
          <a:xfrm>
            <a:off x="457200" y="1352520"/>
            <a:ext cx="4041720" cy="433440"/>
          </a:xfrm>
          <a:prstGeom prst="rect">
            <a:avLst/>
          </a:prstGeom>
          <a:ln w="0">
            <a:noFill/>
          </a:ln>
        </p:spPr>
      </p:pic>
      <p:pic>
        <p:nvPicPr>
          <p:cNvPr id="228" name="Содержимое 8" descr=""/>
          <p:cNvPicPr/>
          <p:nvPr/>
        </p:nvPicPr>
        <p:blipFill>
          <a:blip r:embed="rId2"/>
          <a:stretch/>
        </p:blipFill>
        <p:spPr>
          <a:xfrm>
            <a:off x="324000" y="1989000"/>
            <a:ext cx="3527280" cy="3384720"/>
          </a:xfrm>
          <a:prstGeom prst="rect">
            <a:avLst/>
          </a:prstGeom>
          <a:ln w="0">
            <a:noFill/>
          </a:ln>
        </p:spPr>
      </p:pic>
      <p:pic>
        <p:nvPicPr>
          <p:cNvPr id="229" name="Текст 6" descr=""/>
          <p:cNvPicPr/>
          <p:nvPr/>
        </p:nvPicPr>
        <p:blipFill>
          <a:blip r:embed="rId3"/>
          <a:stretch/>
        </p:blipFill>
        <p:spPr>
          <a:xfrm>
            <a:off x="4645080" y="1274760"/>
            <a:ext cx="4078080" cy="577800"/>
          </a:xfrm>
          <a:prstGeom prst="rect">
            <a:avLst/>
          </a:prstGeom>
          <a:ln w="0">
            <a:noFill/>
          </a:ln>
        </p:spPr>
      </p:pic>
      <p:pic>
        <p:nvPicPr>
          <p:cNvPr id="230" name="Содержимое 9" descr=""/>
          <p:cNvPicPr/>
          <p:nvPr/>
        </p:nvPicPr>
        <p:blipFill>
          <a:blip r:embed="rId4"/>
          <a:stretch/>
        </p:blipFill>
        <p:spPr>
          <a:xfrm>
            <a:off x="4160880" y="1857240"/>
            <a:ext cx="4386240" cy="4711680"/>
          </a:xfrm>
          <a:prstGeom prst="rect">
            <a:avLst/>
          </a:prstGeom>
          <a:ln w="0">
            <a:noFill/>
          </a:ln>
        </p:spPr>
      </p:pic>
      <p:pic>
        <p:nvPicPr>
          <p:cNvPr id="231" name="Заголовок 1" descr=""/>
          <p:cNvPicPr/>
          <p:nvPr/>
        </p:nvPicPr>
        <p:blipFill>
          <a:blip r:embed="rId5"/>
          <a:stretch/>
        </p:blipFill>
        <p:spPr>
          <a:xfrm>
            <a:off x="682560" y="-19080"/>
            <a:ext cx="7778880" cy="1281240"/>
          </a:xfrm>
          <a:prstGeom prst="rect">
            <a:avLst/>
          </a:prstGeom>
          <a:ln w="0">
            <a:noFill/>
          </a:ln>
        </p:spPr>
      </p:pic>
      <p:sp>
        <p:nvSpPr>
          <p:cNvPr id="232" name="Номер слайда 1"/>
          <p:cNvSpPr/>
          <p:nvPr/>
        </p:nvSpPr>
        <p:spPr>
          <a:xfrm>
            <a:off x="8604360" y="6381720"/>
            <a:ext cx="38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41AC-2857-4EBE-8B41-A5BAC8FC53EE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457200" y="109440"/>
            <a:ext cx="8229600" cy="90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"/>
          <p:cNvGraphicFramePr/>
          <p:nvPr/>
        </p:nvGraphicFramePr>
        <p:xfrm>
          <a:off x="142920" y="1038240"/>
          <a:ext cx="8677080" cy="4543560"/>
        </p:xfrm>
        <a:graphic>
          <a:graphicData uri="http://schemas.openxmlformats.org/drawingml/2006/table">
            <a:tbl>
              <a:tblPr/>
              <a:tblGrid>
                <a:gridCol w="2125440"/>
                <a:gridCol w="648000"/>
                <a:gridCol w="792000"/>
                <a:gridCol w="792360"/>
                <a:gridCol w="934920"/>
                <a:gridCol w="792000"/>
                <a:gridCol w="936720"/>
                <a:gridCol w="863640"/>
                <a:gridCol w="792000"/>
              </a:tblGrid>
              <a:tr h="13107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тяженность отремонтированных дор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ъем расходов, тыс. руб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бюджет П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мес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бюджет П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мес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итальный ремонт дорог с гравийным покрытием,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5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1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1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монт дорог с а/б покрытием,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8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7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3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4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1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83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1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4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7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3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4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18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83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18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35" name="Номер слайда 1"/>
          <p:cNvSpPr/>
          <p:nvPr/>
        </p:nvSpPr>
        <p:spPr>
          <a:xfrm>
            <a:off x="8675640" y="6308640"/>
            <a:ext cx="31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0FA5-BDBF-4870-9D5F-EA867159BF55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3" descr=""/>
          <p:cNvPicPr/>
          <p:nvPr/>
        </p:nvPicPr>
        <p:blipFill>
          <a:blip r:embed="rId1"/>
          <a:stretch/>
        </p:blipFill>
        <p:spPr>
          <a:xfrm>
            <a:off x="457200" y="-122400"/>
            <a:ext cx="8229600" cy="179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250920" y="1773360"/>
          <a:ext cx="8715240" cy="4171680"/>
        </p:xfrm>
        <a:graphic>
          <a:graphicData uri="http://schemas.openxmlformats.org/drawingml/2006/table">
            <a:tbl>
              <a:tblPr/>
              <a:tblGrid>
                <a:gridCol w="3430440"/>
                <a:gridCol w="1663920"/>
                <a:gridCol w="1766880"/>
                <a:gridCol w="185400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ма, тыс. руб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местный бюдж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 Пермского кр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ройство а/б тротуаров и ремонт дорог в гравийном исполне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76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76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кладка водопрово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4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4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монт дорог местного значения на территории г.Кудымка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7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4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33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ройство   детских площад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ка  остановочных  комплек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,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39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88,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04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38" name="Номер слайда 1"/>
          <p:cNvSpPr/>
          <p:nvPr/>
        </p:nvSpPr>
        <p:spPr>
          <a:xfrm>
            <a:off x="8604360" y="6237360"/>
            <a:ext cx="38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E1A6-CEA3-477D-ADDE-3487910398D5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407880" y="-133200"/>
            <a:ext cx="8358120" cy="113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0" name=""/>
          <p:cNvGraphicFramePr/>
          <p:nvPr/>
        </p:nvGraphicFramePr>
        <p:xfrm>
          <a:off x="179280" y="981000"/>
          <a:ext cx="8856720" cy="5575320"/>
        </p:xfrm>
        <a:graphic>
          <a:graphicData uri="http://schemas.openxmlformats.org/drawingml/2006/table">
            <a:tbl>
              <a:tblPr/>
              <a:tblGrid>
                <a:gridCol w="2967120"/>
                <a:gridCol w="849240"/>
                <a:gridCol w="1079640"/>
                <a:gridCol w="936720"/>
                <a:gridCol w="3024000"/>
              </a:tblGrid>
              <a:tr h="7779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инвестиционного проек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сходы на реализации проекта в 2012 году , тыс. рубле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зультаты реализац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0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.ч. местный бюдже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.ч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юджет Пермского кра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6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ектирование объекта: «Строительство сетей газопровода низкого давления для частного сектора застройки в городе Кудымкаре»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0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2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ы работы по разработке проектно сметной документации на строительство сетей газопровода низкого давления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1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конструкция ГТС на р.Кув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6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6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конструкция ГТС  завершен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ительство средней общеобразовательной школы на 422 учащихся (2 очередь. Спортивное ядро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1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1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строена площадка для мини-футбола, беговая дорожка, яма для прыжков в длину, установлены брусья параллельные металлические, турник-шведская стенка, скамьи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42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44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41" name="Номер слайда 1"/>
          <p:cNvSpPr/>
          <p:nvPr/>
        </p:nvSpPr>
        <p:spPr>
          <a:xfrm>
            <a:off x="8604360" y="6381720"/>
            <a:ext cx="53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9BBC-17AF-44C2-A8E1-699B45A4D14A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457200" y="-133200"/>
            <a:ext cx="8229600" cy="113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34920" y="1000080"/>
          <a:ext cx="9109080" cy="5794560"/>
        </p:xfrm>
        <a:graphic>
          <a:graphicData uri="http://schemas.openxmlformats.org/drawingml/2006/table">
            <a:tbl>
              <a:tblPr/>
              <a:tblGrid>
                <a:gridCol w="3112920"/>
                <a:gridCol w="1649520"/>
                <a:gridCol w="4346640"/>
              </a:tblGrid>
              <a:tr h="789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мероприя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ктические затраты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и реал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39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ущее содержание автодорог, остановок, тротуар гор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1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в нормативном состоянии  132 км дорог с прилегающей инфраструктурой,  и мест общего пользования города общей площадью 32,24 кв.к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итальный ремонт муниципального жилфон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емонтировано  2 квартир, находящихся в муниципальной собственности за счет платы за най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2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линий электропередач наружного освещ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в течение года бесперебойного освещения улиц города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3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кладбищ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территории кладбища, и вырубка деревьев на городском кладбищ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2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вакуация умерш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вакуация умерш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9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жное освещение гор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8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 в течение года бесперебойного освещения улиц город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41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итальный ремонт дворовых территорий многоквартирных домов, проездов к дворовым территориям многоквартирных дом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79,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едено в нормативное состояние  19,1 тыс.кв.м дворовых территор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монт мемориала  «Звездочк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0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ы работы по ремонту мемориала погибшим жителям г.Кудымкара в В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3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мероприя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238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схемы теплоснабжения, приобретение материалов для строительства тепловой сети и д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856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44" name="Номер слайда 1"/>
          <p:cNvSpPr/>
          <p:nvPr/>
        </p:nvSpPr>
        <p:spPr>
          <a:xfrm>
            <a:off x="8604360" y="6486480"/>
            <a:ext cx="53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F566-2318-4715-A7A6-9CFC3DD939EE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3" descr=""/>
          <p:cNvPicPr/>
          <p:nvPr/>
        </p:nvPicPr>
        <p:blipFill>
          <a:blip r:embed="rId1"/>
          <a:stretch/>
        </p:blipFill>
        <p:spPr>
          <a:xfrm>
            <a:off x="469800" y="2200320"/>
            <a:ext cx="8229600" cy="1165320"/>
          </a:xfrm>
          <a:prstGeom prst="rect">
            <a:avLst/>
          </a:prstGeom>
          <a:ln w="0">
            <a:noFill/>
          </a:ln>
        </p:spPr>
      </p:pic>
      <p:sp>
        <p:nvSpPr>
          <p:cNvPr id="246" name="Номер слайда 1"/>
          <p:cNvSpPr/>
          <p:nvPr/>
        </p:nvSpPr>
        <p:spPr>
          <a:xfrm>
            <a:off x="8459640" y="6308640"/>
            <a:ext cx="46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C88A-A618-4747-B887-E92932957515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30T03:34:02Z</dcterms:created>
  <dc:creator>1</dc:creator>
  <dc:description/>
  <dc:language>en-US</dc:language>
  <cp:lastModifiedBy>Администрация</cp:lastModifiedBy>
  <cp:lastPrinted>2014-08-18T08:15:09Z</cp:lastPrinted>
  <dcterms:modified xsi:type="dcterms:W3CDTF">2014-08-18T08:16:34Z</dcterms:modified>
  <cp:revision>144</cp:revision>
  <dc:subject/>
  <dc:title>Итоги реализации комплексной муниципальной программы «Благоустройство муниципального образования «Городской округ – город Кудымкар» на 2012-2015 годы» за 2012 год</dc:title>
</cp:coreProperties>
</file>